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131E-DA94-45D3-8E88-B495531E36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A2B8-9AC4-4865-A0FC-14A18558D3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8D9F-C4B2-454A-BFEF-04173052F6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DA7C-40E4-4D32-8E64-AC6A94BC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0B71-EC04-40AD-BFDC-4729F0A2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B9E-B910-44CF-8AAB-E92662A6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FAA-2E87-47BC-947B-4ED60960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5CFD-04E6-43D1-8706-4357CF15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FD69-2572-4397-AA3C-787EA610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B407-9A17-4F20-8476-D9EF5E32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E260-B7E0-466E-9A2E-464C935E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2710-E799-48FB-B570-3DDA130D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6C2E-18A3-4D11-889B-7EF6F8AF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0DF0-E41A-46D9-8EDF-C8FC7B82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7AB-499E-4EE6-85E0-00D61131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FACB-2FF8-4686-989B-F4D509DD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BDDC-517D-4DEB-8CEE-AF446460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4EEF-4E7D-4578-890A-3FE0BCD4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1D80-899C-4A68-91A3-33428CFF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398B-159E-4CBE-9556-58586FFB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2D53-3CD8-42F4-9ACE-29FB29D9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37C-6761-439F-AB10-EA2542A8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031-B156-4152-B6D2-864D5527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05E-6D04-4DFF-8D01-6C45519F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8A9-282A-4015-9448-55FA5118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646-549F-49C4-A54E-D6260228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B70-9EB8-4879-A7C8-D998E67E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0237-B769-4574-A9C1-7C7C6D4CE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6216-3E6E-421E-BCE2-2C0BF060576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Concepts of Medical Anthropolo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jaak van der Ge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Anthr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ity of Amsterd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ultural anthropology - Medical anthrop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instr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being in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production of mea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y in times of pe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ck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ene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rupture with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crisis, chaos, danger, s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pon of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Explanatory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1. etiology (why? because of what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2. onset of sympt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. pathofys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4. course of sick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reatment (what to do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(Kleinman 1980:105; Helman 2000:85-8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lness explan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attributed to the work of a person or conscious agent; someone is bl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ur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not attributed to a person or conscious agent: it just happens, like a natural phenome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91920"/>
            <a:ext cx="7792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are not just cultural; they can also have a (hidden) social or political mean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ur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tur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express social and other interests of those who produce them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personalistic or naturalistic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hropologis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and naturalistic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a more “primitive” view of illness causes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more “cultural” and less “scientific”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and naturalistic views do not exclude one another: they often occur toge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ahoma"/>
              </a:rPr>
              <a:t>Therapy management group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125360"/>
            <a:ext cx="77929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/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in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medicin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of medicine: outside perspective / theoretical / critical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in medicine: ‘embedded’, applied, ‘useful’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not be separated howeve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Overview lec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ical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of illness and of health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ree sectors of health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Disease vs ill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ult. anthrop. vs medical anthr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xplanatory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wo ‘types’ of expla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erapy managemen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ical perspective on medical iss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dical   vs   anthropolog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ing (qua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na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w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(and et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ve (quali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uali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predi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of health/illness and of health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1168560" y="1987560"/>
            <a:ext cx="5995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/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n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llnes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75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U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 / eti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plura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apy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-patient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Three sectors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258920" y="1884240"/>
            <a:ext cx="684216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ISEASE     VS    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2:33:27Z</dcterms:modified>
  <cp:revision>37</cp:revision>
  <dc:subject/>
  <dc:title>Meanings of growing old Care of elderly people</dc:title>
</cp:coreProperties>
</file>